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411-AFD7-4CA0-BF8A-CC13E7DB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E43-688E-446A-A9D4-9B5A47B4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7D9-89C1-4DEB-A2B6-C3447F44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5A1-BF9E-4333-93E1-97D44E41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0899-7042-47C4-B091-545C5F9D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339F-1477-4ACE-9D34-6790BD3C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104B-129C-498C-949A-98A3EC26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944A-694E-485A-AF20-B607D91C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4093-B29F-477D-BEE5-D821D0FF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CD52-21D7-4AF7-B01E-3BB4879F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DE23-FB8A-48A8-9FEB-0631077E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92A9-3D6A-4F67-B4FA-5F74B73B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56B3-E70B-49C2-8C9D-4593C61B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264E-DECA-4B98-94DE-CB95FF6B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F6C0-6103-44CB-8A8C-B856D75A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D7D8-7923-4EA9-86AE-94E50B80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AD35-335A-4620-8707-49CC4E7E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A75-FED9-42FF-94C8-D25C14B8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BFB-7BF7-4F5D-9D23-B8E1254A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1C0F-6A2A-4095-A576-352270BC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869-881B-4403-974C-D2D9D5AD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6FD5-73A1-4BF1-8A91-16BB1E1D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1731-5AD1-4612-9609-4D8122E5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16C8-73D6-4816-8D02-37DEF328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FAE577-CF44-4909-8E6C-D10C71D0EB1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8A5B4-C365-4F79-98BB-A812FBFDC5F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90720" y="1523880"/>
            <a:ext cx="7162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, Mutual Marketing and a Common Approa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22780" t="16889" r="23890" b="27999"/>
          <a:stretch/>
        </p:blipFill>
        <p:spPr>
          <a:xfrm>
            <a:off x="990720" y="914400"/>
            <a:ext cx="7315200" cy="4724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6920" y="380880"/>
            <a:ext cx="78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workingincanada.gc.ca/welcome.do?template=ontario&amp;lang=e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16669" t="17779" r="40557" b="10220"/>
          <a:stretch/>
        </p:blipFill>
        <p:spPr>
          <a:xfrm>
            <a:off x="0" y="685800"/>
            <a:ext cx="5867280" cy="6172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19443" t="31111" r="58890" b="14667"/>
          <a:stretch/>
        </p:blipFill>
        <p:spPr>
          <a:xfrm>
            <a:off x="5791320" y="1981080"/>
            <a:ext cx="2971800" cy="4648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0" t="0" r="71137" b="2444"/>
          <a:stretch/>
        </p:blipFill>
        <p:spPr>
          <a:xfrm>
            <a:off x="6248520" y="1295280"/>
            <a:ext cx="1828800" cy="762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V="1">
            <a:off x="1752480" y="2513160"/>
            <a:ext cx="4114800" cy="244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133720" y="5103720"/>
            <a:ext cx="3809880" cy="114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1522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te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2780" t="0" r="23334" b="5778"/>
          <a:stretch/>
        </p:blipFill>
        <p:spPr>
          <a:xfrm>
            <a:off x="1447920" y="0"/>
            <a:ext cx="6275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21667" t="17779" r="23890" b="4447"/>
          <a:stretch/>
        </p:blipFill>
        <p:spPr>
          <a:xfrm>
            <a:off x="685800" y="38160"/>
            <a:ext cx="7467480" cy="66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1667" t="14988" r="22780" b="5387"/>
          <a:stretch/>
        </p:blipFill>
        <p:spPr>
          <a:xfrm>
            <a:off x="609480" y="228600"/>
            <a:ext cx="7620120" cy="647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4:56:00Z</dcterms:created>
  <dc:creator>alejandra bravo</dc:creator>
  <dc:description/>
  <dc:language>en-US</dc:language>
  <cp:lastModifiedBy>marco</cp:lastModifiedBy>
  <dcterms:modified xsi:type="dcterms:W3CDTF">2010-11-02T13:26:43Z</dcterms:modified>
  <cp:revision>80</cp:revision>
  <dc:subject/>
  <dc:title>Slide 1</dc:title>
</cp:coreProperties>
</file>